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0912-B065-469D-A97B-7D84F3BF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8BC-2EDE-4BAF-BCAA-DAF405B0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485-665A-48BE-BE50-80C5B25E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9FA-2919-4360-90D2-D7B94DE4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FEC5-2E0E-4C15-875B-422CC011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027A-03DC-4056-A26A-15872559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C1CE-D170-4949-A88F-4F80FA57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EA36-863B-4E00-9E0D-D89BA33D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E3ED-0E61-494E-8202-8E6B6AA5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92D7-733D-4DAD-AB2A-FAB71180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81BC-0FFA-4D4A-9A91-59911DBB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425-6FE9-47EF-B5D3-5D7F2F75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ED82-DEC6-4DAE-A9DC-6BD2B794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41F5-F43F-4A10-98CC-57535E81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A361-C7C7-4565-A69F-4789CA52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2118-96B9-45B0-9AF1-33B39587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598B-18F6-40A1-9348-809F9192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D35-397E-41A2-84DE-F672836C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CD7E-D373-4278-BD18-F6431B67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EDF-14DF-4443-AD49-008C2859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092-F61A-4E75-9187-78311570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01A-B564-4827-A8AD-6415D46B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26A5-129D-4404-AD04-92110B3A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6E8-E01F-4200-83D2-AC7D77CD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b1bcb4"/>
              </a:gs>
              <a:gs pos="100000">
                <a:srgbClr val="cbd7c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5FDA-A822-40C0-A4FB-99D852786D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FC72-FFFB-40A3-8076-44F3C070C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bd7c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d80"/>
                </a:solidFill>
                <a:latin typeface="Arial"/>
              </a:rPr>
              <a:t>Tuesday, March 10th</a:t>
            </a:r>
            <a:endParaRPr b="0" lang="en-US" sz="48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first four terms of this recursive sequ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24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k+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-3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k 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+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581280" y="1219320"/>
          <a:ext cx="21337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219320"/>
                    <a:ext cx="2133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Page 626</a:t>
            </a:r>
            <a:br>
              <a:rPr sz="7500"/>
            </a:b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#51-57,69-73</a:t>
            </a:r>
            <a:br>
              <a:rPr sz="7500"/>
            </a:b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&amp; 79-83</a:t>
            </a:r>
            <a:endParaRPr b="0" lang="en-US" sz="7500" spc="-1" strike="noStrike">
              <a:solidFill>
                <a:srgbClr val="007d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7d80"/>
                </a:solidFill>
                <a:latin typeface="Arial"/>
              </a:rPr>
              <a:t>Page 625 #1-11,25-27, 29-33</a:t>
            </a:r>
            <a:endParaRPr b="0" lang="en-US" sz="3500" spc="-1" strike="noStrike">
              <a:solidFill>
                <a:srgbClr val="007d8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Lesson 9.1</a:t>
            </a:r>
            <a:br>
              <a:rPr sz="7500"/>
            </a:b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007d8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7d80"/>
                </a:solidFill>
                <a:latin typeface="Arial"/>
              </a:rPr>
              <a:t>Place Important Paper #7 into your binder</a:t>
            </a:r>
            <a:endParaRPr b="0" lang="en-US" sz="5500" spc="-1" strike="noStrike">
              <a:solidFill>
                <a:srgbClr val="007d8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Write an expression for the apparent n</a:t>
            </a:r>
            <a:r>
              <a:rPr b="0" lang="en-US" sz="4000" spc="-1" strike="noStrike" baseline="30000">
                <a:solidFill>
                  <a:srgbClr val="007d8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 term: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2, 4, 6, 8, 10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3, 7, 11, 15, 19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1, 4, 9, 16, 25, 36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Factorial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ctorial of a number N is the product of all positive integers from 1 to 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ymbol is N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68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68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Evaluate:</a:t>
            </a:r>
            <a:br>
              <a:rPr sz="4000"/>
            </a:b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5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7!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4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10! 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• 3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Sigma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igma is the notation used for summation of limit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symbol is 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124080" y="1447920"/>
          <a:ext cx="26672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447920"/>
                    <a:ext cx="26672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28:40Z</dcterms:created>
  <dc:creator>jnewman</dc:creator>
  <dc:description/>
  <dc:language>en-US</dc:language>
  <cp:lastModifiedBy>abeason</cp:lastModifiedBy>
  <dcterms:modified xsi:type="dcterms:W3CDTF">2009-03-09T12:19:27Z</dcterms:modified>
  <cp:revision>12</cp:revision>
  <dc:subject/>
  <dc:title>Lesson 9.1 part two</dc:title>
</cp:coreProperties>
</file>